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551-E543-47F9-8C0A-0FF35730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6CB-0697-4F22-B087-BCD40F9B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431-F6A9-423F-810A-875254C4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D28-BF8F-4F94-B145-69D76D72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7AB-14B7-404B-BF0E-7C18B749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336-90E7-4DF4-901C-9DD6587B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704-FB57-4A49-8798-CB273042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8EA8-33DC-4625-AED7-CFEBADE6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F2E-A645-486E-BC9C-FE7933AB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17E-7F84-4B54-86F2-84FBE8A9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496-652A-47F2-A9F5-10F42C35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AA6-A491-4895-8FA1-5A4EF128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B9C4-1E85-4E19-A772-CFAC13593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773800">
            <a:off x="1752480" y="1294920"/>
            <a:ext cx="7239240" cy="255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0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Egg Olymp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Bernard MT Condensed"/>
              </a:rPr>
              <a:t>10 MINU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solidFill>
            <a:srgbClr val="ecfba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RAINSTORM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226692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685800" y="121932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Bernard MT Condensed"/>
              </a:rPr>
              <a:t>15 MINU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cfba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ba3"/>
                </a:solidFill>
                <a:latin typeface="Arial Black"/>
              </a:rPr>
              <a:t>Draw a prelimina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cfba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ba3"/>
                </a:solidFill>
                <a:latin typeface="Arial Black"/>
              </a:rPr>
              <a:t>BE SPECIFI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cfba3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fba3"/>
                </a:solidFill>
                <a:latin typeface="Arial Black"/>
              </a:rPr>
              <a:t>Include how materials will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cfba3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fba3"/>
                </a:solidFill>
                <a:latin typeface="Arial Black"/>
              </a:rPr>
              <a:t>Show how things will be att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cfba3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fba3"/>
                </a:solidFill>
                <a:latin typeface="Arial Black"/>
              </a:rPr>
              <a:t>Show how the egg will be pla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cfba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ba3"/>
                </a:solidFill>
                <a:latin typeface="Arial Black"/>
              </a:rPr>
              <a:t>Present design to your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8534160" cy="6553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Bernard MT Condensed"/>
              </a:rPr>
              <a:t>25 minut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ject Managers get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uild your struct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raw fin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final design must be very deta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should be easy enough to read that a complete stranger could get the plans and build an identical stru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62320" y="152280"/>
            <a:ext cx="4751280" cy="6158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00"/>
                </a:solidFill>
                <a:latin typeface="Bernard MT Condensed"/>
              </a:rPr>
              <a:t>TIME’S UP!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ject Managers please bring structures to front of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22:48:23Z</dcterms:created>
  <dc:creator>SKPS User</dc:creator>
  <dc:description/>
  <dc:language>en-US</dc:language>
  <cp:lastModifiedBy>SKPS User</cp:lastModifiedBy>
  <dcterms:modified xsi:type="dcterms:W3CDTF">2009-02-04T22:54:28Z</dcterms:modified>
  <cp:revision>3</cp:revision>
  <dc:subject/>
  <dc:title>Slide 1</dc:title>
</cp:coreProperties>
</file>